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544-9385-447D-AE48-0C844EB5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048-E3F2-483F-A636-39F43F37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166-4836-4E32-9AC0-15E8C9B8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EEC-7466-43AC-BF95-FC35137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DDD-3495-4CDB-B3DE-5EAD05E5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4B4-0D94-475E-A737-89EEDDC3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7F3-F8D9-4249-A4BF-5B03359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5EF-D89F-4A8A-9F69-4214CDE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B79-774D-41A6-969A-5AAA909C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AF5-4D7D-4A43-94AA-A4948A2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5E0-55BA-49B5-B710-C495A49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8A5-6C69-405A-AF66-C117B5C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739F-C1A1-4B08-86F3-1834605577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3564000" y="2565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06:56:00Z</dcterms:modified>
  <cp:revision>810</cp:revision>
  <dc:subject/>
  <dc:title>Free PPT Backgrounds</dc:title>
</cp:coreProperties>
</file>